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72DF8-7B91-4D81-81C8-D4C03B95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1AEBA-20DF-4580-865F-7A30A99A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7CCE3-2C81-4554-969E-B3112421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93599-5651-4B9F-822D-0E61DD96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BCD8-FB94-4238-9869-1CD5AA91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EEAD-497C-44DC-81B2-773CC8E6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64C9-378B-481B-B959-C63B0CB2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A5A2-8FC6-44ED-A69D-58D805F7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DC8A-8F98-4273-8EFA-A0FCE4E8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876F-1D82-4EAF-99E5-D62871EF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155C-ECF6-4EDF-80BD-DEAE15B1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6E89B-B496-4CF2-A424-53DD3A1A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5506-041F-43A6-B9A0-9831E7ED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E9AC-5343-4AE9-B32C-0861C942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5E4E-745F-4096-9FBF-43400617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5E39-8E9A-403B-8F14-0C7ED253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8700-F6E7-46B5-9976-690B4721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2D615-9F97-46AD-B918-71C57AA0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D1026-1F26-48EA-9071-426EA627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E4F5A-C3ED-4C0B-93A3-4A4C5CA7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95094-BD4A-4A74-93FE-3098F807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8FB15-837D-4A10-B98F-67F37C20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4FF60-405A-4899-917C-60426C86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B0B40-6B13-4706-944E-563DFBFE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DC50-630C-47AE-A711-8D3131B6F3A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BF99-C720-4EF9-942E-EAB6304015E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cc"/>
                </a:solidFill>
                <a:latin typeface="Tahoma"/>
              </a:rPr>
              <a:t>Un Foro que trat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990720"/>
            <a:ext cx="853416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ograr que se incluyan dentro del Acuerdo Nacional, temas de Sociedad de la Información como instrumentos para el Desarrollo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ograr que las diversas tiendas políticas y sus candidatos para las elecciones del 2006 incluyan en sus planes de gobierno, políticas que permitan al sector privado y a la sociedad civil, aprovechar las oportunidades que ofrece la globalización y las tecnologías de la información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pulsar, a través de los gremios y organizaciones de base, la preparación de la micro y pequeña empresa para mejorar su nivel de competitividad y vincularse exitosamente con los mercados mundial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6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onvocar a todas las organizaciones del sector privado y la sociedad civil del país interesadas en aprovechar las oportunidades que ofrece la globalización y las tecnologías de la información a sumarse al esfuerzo que hoy hacemos público en el Consejo Privado para la Agenda Digit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-38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EJES TEMATICOS (2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30592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4.- Oferta Exportable (Oferta Digit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  <a:ea typeface="Arial"/>
              </a:rPr>
              <a:t>Todos los productos y servicios peruanos a los que se les pueda incorporar valor agregado intangible que los diferencie y los haga competitiv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5.- Marco Institu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Conjunto de propuestas sobre políticas público-privadas y acciones específicas dirigidas a influir en la sociedad, diseñando, utilizando y promueviendo los recursos que nos brinda las Tecnologías.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PARTICIPANTE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37720" y="1523880"/>
            <a:ext cx="762012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unirá  Empresarios, líderes de organizaciones y autoridades del Estado de todas las regiones del Per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proximadamente 100,000 participantes virtuales, usando Videoconferencia, Chat, email y otros medios virtu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25a"/>
                </a:solidFill>
                <a:latin typeface="Tahoma"/>
              </a:rPr>
              <a:t>Actividades previas al For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755640" y="1412640"/>
            <a:ext cx="784872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ideo explicativo de la importancia de las TI para el país. (15 min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nferencias de Expertos, incidiendo en la importancia del uso de la tecnología. (1 hora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mostración del Uso de la Tecnología; correo electrónico, chat, videoconferencia, foro, streaming, otros medios. (30 min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eguntas de los participantes . (15 min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5715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Antesala  Tiempo estimado 2 Ho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3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andidatos a Invitar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619280" y="1989000"/>
            <a:ext cx="64008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URDES FL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LLANTA HUM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AN GARC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ENTIN PANIAG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x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8132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25a"/>
                </a:solidFill>
                <a:latin typeface="Tahoma"/>
              </a:rPr>
              <a:t>MEDIOS DE COMUNICACIÓ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403280" y="2349360"/>
            <a:ext cx="64008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AR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ISTAS DIGIT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BINAS DE INTER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95480" y="838080"/>
            <a:ext cx="3110040" cy="1216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ESIDENTE DEL CP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2057400"/>
            <a:ext cx="0" cy="5065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295280" y="2590920"/>
            <a:ext cx="6705720" cy="14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2590920"/>
            <a:ext cx="1800" cy="664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2590920"/>
            <a:ext cx="1800" cy="5061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2590920"/>
            <a:ext cx="1440" cy="18255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44080" y="4691160"/>
            <a:ext cx="1440" cy="76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2286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Tahoma"/>
              </a:rPr>
              <a:t>EQUIPO DE TRABAJO PARA EL F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3124080"/>
            <a:ext cx="2362320" cy="709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19720"/>
            <a:ext cx="3795840" cy="1622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OTOCOLO Y DESARROLLO DEL EV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19920" y="4343400"/>
            <a:ext cx="2881080" cy="1066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ORO Y SEGU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3048120"/>
            <a:ext cx="3657600" cy="1014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ECNOLOGIA DEL EV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01000" y="2590920"/>
            <a:ext cx="0" cy="17524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132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f25a"/>
                </a:solidFill>
                <a:latin typeface="Tahoma"/>
              </a:rPr>
              <a:t>CRONOGRAMA DE ACTIVIDAD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685800"/>
            <a:ext cx="769644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Hasta el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de En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PAD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Formalización en Registros Públic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Membretes, Tarjeta,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Folder del Fo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signación de Centro de operación del ev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brir Cuenta Bancaria para el CP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MITE ORGANIZA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sarrollo de la información, Pagina Web, base de da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mpresión de invitaciones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(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Carta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uspicia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Invitación para inaugurar y clausurar el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Fo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Invitados espe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Ponentes del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Foro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304920"/>
            <a:ext cx="7848720" cy="62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Del  </a:t>
            </a: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0 </a:t>
            </a: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de Enero 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al  </a:t>
            </a: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Febr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- Campaña de Marketing /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-mai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- Visitas a auspiciadores y empres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- Auspicios obteni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- Inscripciones realizadas, depósitos banc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- Administración de los recursos económ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- Inicio de campaña agresiva con medios loc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Del </a:t>
            </a: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15 de 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Febrero</a:t>
            </a: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 al 10 de Marz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- Medición de result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- Confirmar participació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onferencia de Pren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14 de Marzo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mplementación del L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cc"/>
                </a:solidFill>
                <a:latin typeface="Tahoma"/>
              </a:rPr>
              <a:t>"Lo más emocionante del futuro, es que podemos inventarlo"  </a:t>
            </a:r>
            <a:br>
              <a:rPr sz="4200"/>
            </a:br>
            <a:r>
              <a:rPr b="0" lang="es-ES_tradnl" sz="4200" spc="-1" strike="noStrike">
                <a:solidFill>
                  <a:srgbClr val="ffffcc"/>
                </a:solidFill>
                <a:latin typeface="Tahoma"/>
              </a:rPr>
              <a:t>- Charles Handy </a:t>
            </a:r>
            <a:r>
              <a:rPr b="0" lang="es-MX" sz="4200" spc="-1" strike="noStrike">
                <a:solidFill>
                  <a:srgbClr val="ffffcc"/>
                </a:solidFill>
                <a:latin typeface="Tahoma"/>
              </a:rPr>
              <a:t>-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5638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Grac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971440"/>
            <a:ext cx="7391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Tahoma"/>
              </a:rPr>
              <a:t>PROPUESTAS </a:t>
            </a:r>
            <a:r>
              <a:rPr b="1" lang="es-ES_tradnl" sz="4000" spc="-1" strike="noStrike">
                <a:solidFill>
                  <a:srgbClr val="ffffff"/>
                </a:solidFill>
                <a:latin typeface="Tahoma"/>
              </a:rPr>
              <a:t>POLITICAS DE TECNOLOGIAS PARA EL DESARROLLO SOCI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533520"/>
            <a:ext cx="72392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El Perú debe aprovechar las oportunidades que ofrece las Tecnologías, para construir la Sociedad de la Información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F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Fecha: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 Jueves 16 de Marzo del 2006</a:t>
            </a:r>
            <a:br>
              <a:rPr sz="3200"/>
            </a:b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Lugar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:  Sala Magna Facultad de Ingeniería - Universidad Ricardo Palma</a:t>
            </a:r>
            <a:br>
              <a:rPr sz="3200"/>
            </a:b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Organiza: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onsejo Privado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ara la Agenda Digital - CPAD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cc"/>
                </a:solidFill>
                <a:latin typeface="Tahoma"/>
              </a:rPr>
              <a:t>POR QUE :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 un mandato previsto en las bases del CP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26668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cc"/>
                </a:solidFill>
                <a:latin typeface="Tahoma"/>
              </a:rPr>
              <a:t>PARA QUE :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73392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ara conocer las propuestas de los candidatos a la preside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cc"/>
                </a:solidFill>
                <a:latin typeface="Tahoma"/>
              </a:rPr>
              <a:t>BENEFICIO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formar a la comunidad nacional las propuestas de los candidatos respecto a las 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evenir a las Empresas sobre las estrategias anunciadas por los candidat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osicionamiento del CPAD como ente promotor de tecnolog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mpartir la Visión que tiene CPAD en relación al aprovechamiento de las tecnologías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07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bf25a"/>
                </a:solidFill>
                <a:latin typeface="Tahoma"/>
              </a:rPr>
              <a:t>VISION</a:t>
            </a:r>
            <a:br>
              <a:rPr sz="36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Orientar a la sociedad e  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in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fluir en 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l Gobierno sobre las oportunidades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que ofrece la tecnología 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ara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genera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bienestar a los peruanos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352680"/>
            <a:ext cx="7702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ebf25a"/>
                </a:solidFill>
                <a:latin typeface="Tahoma"/>
              </a:rPr>
              <a:t>MISIO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inir estrategias y planes concertado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 faciliten un desarrollo sostenible de las tecnologías y su aprovechami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f25a"/>
                </a:solidFill>
                <a:latin typeface="Tahoma"/>
              </a:rPr>
              <a:t>Objetivos</a:t>
            </a: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oger, analizar e identificar la problemática del uso de las tecnologías  de la información como recurso de producción y estudio del ciudadan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ular y evaluar propuestas entre autoridades y lideres representativos del sector TI, sobre las tecnologías de la inform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f25a"/>
                </a:solidFill>
                <a:latin typeface="Tahoma"/>
              </a:rPr>
              <a:t>EXPOSITOR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2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s principales candidatos a la Presidencia de la República; quienes presentaran sus propuestas sobre temas prioritarios para el desarrollo del país, centrándose en cinco ejes temáticos; respondiendo a un panel de expertos, y personas que sigan el evento vía Internet a nivel mundi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-38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EJES TEMATICOS (1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28240" y="838080"/>
            <a:ext cx="89154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1.-Educación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nvolucra tanto la educación como la capacitación de los recursos humanos nacion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2.-Infraestruc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Comprende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todos los elementos físicos necesarios para poder tener acceso a la información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3.-Contenidos y potencialidad (Infoestructu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  <a:ea typeface="Arial"/>
              </a:rPr>
              <a:t>Son todos las fuentes de información y servicios digitales que se puedan aprovechar gracias a la infraestructura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7:14:32Z</dcterms:created>
  <dc:creator>USER01</dc:creator>
  <dc:description/>
  <dc:language>en-US</dc:language>
  <cp:lastModifiedBy>Ricoh</cp:lastModifiedBy>
  <dcterms:modified xsi:type="dcterms:W3CDTF">2006-02-14T16:43:56Z</dcterms:modified>
  <cp:revision>171</cp:revision>
  <dc:subject/>
  <dc:title>Diapositiva 1</dc:title>
</cp:coreProperties>
</file>